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42B1-4F56-48B8-B59E-6EEB4FDFB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DBA7-1A0C-4E34-95D3-76D5F3E3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5E1A-7EB4-44F7-8EA0-3D2ECA5BF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3D83-DF47-47FA-BEA6-C8B8571EC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8910-9834-4021-8730-1D9083FB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FD0E-C712-4670-88BC-C65B42AD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15B0-FE26-41CA-B26B-7364322AF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199E-6CA8-4F20-B54F-47735132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0FC8-C691-43CC-A353-094D230C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B5D0-9C1D-44B4-9F66-C2F3725A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A97B4-2C36-406B-83E1-0D832496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D719-A856-4FAC-87CF-2E503DCB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42C6-BB63-4A5B-A6FD-35686B9C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F40C-1479-4616-9399-1AC32702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F9BA-D06B-459E-9BB7-9DEA5C06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B94E-FFA8-402B-B884-84BD01A2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B68B-9A6D-43DB-A49F-C51AD688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C636-6D46-4B30-8FCD-D482226BA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318D-BAD9-408E-AAA2-550ED0C17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A3DE3-14BC-4D84-A192-D9F8E6D98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1A4C-368D-4384-B60A-C56088AD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003E9-06C2-4A72-B576-B79EB443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8296D-6885-40FF-B903-3175101F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EA304-1F69-4F0C-B2BF-D5AA93E7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130D0-BC6B-4174-A2E2-307CB7B5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F0CA4-3924-4E5E-BAA9-DD37611E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224F1-CBA5-40C1-8A32-A9A21AA5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618D4-5644-4E11-9194-F8EC73EA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0D5CE-A8AB-4B1F-9B01-F392B45F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DC814-06FA-4F99-B5DC-331139AF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9364B-D753-45C5-9D7A-4F63F04A0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2528-16B5-407B-B8A7-4322D20A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88ADF-C8EA-4910-951E-1E55B7F03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5E5BE-1A44-483F-A09D-5CBD22EE5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6A61F-1E2D-4E40-B686-D0C4BD2C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05C58-FB74-492F-9472-7C540F91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BEE3C-315C-4B9E-8D73-A3D37A0B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172CE-FCEB-45EA-BAA8-D81105F1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4EBB9-2E45-4C4D-8116-49188F848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E1513-8BD4-4B18-9240-E66063A6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1D8F6-245E-44B9-BE21-AB7B44D6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0916F-3E7F-460C-8E07-6284682E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25FE-F5AE-4C00-99C3-A8942F0B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596DB-BDE1-42AE-9D64-6CF3B99C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F01AA-76D4-40E5-912C-07B69F6C5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3CFAF-F31E-4496-B1D6-92722119F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C1EA-6715-4CE0-9767-C6291D04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05B3-ACEB-498E-A671-A3EC025B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8"/>
          <p:cNvSpPr/>
          <p:nvPr/>
        </p:nvSpPr>
        <p:spPr>
          <a:xfrm>
            <a:off x="304920" y="0"/>
            <a:ext cx="115790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D5658EF0-9904-4B61-AA99-A49056C66674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1459041A-5915-4161-8D9B-068EB1616F95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rostokąt 7"/>
          <p:cNvSpPr/>
          <p:nvPr/>
        </p:nvSpPr>
        <p:spPr>
          <a:xfrm>
            <a:off x="3960720" y="0"/>
            <a:ext cx="79232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32304E00-E52D-45F1-BC21-DD54B408962A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rostokąt 7"/>
          <p:cNvSpPr/>
          <p:nvPr/>
        </p:nvSpPr>
        <p:spPr>
          <a:xfrm>
            <a:off x="2082960" y="0"/>
            <a:ext cx="8022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0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1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2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9AC19F07-A586-484B-A2EF-13CDEA972A45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71720" y="1498320"/>
            <a:ext cx="7008840" cy="2290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pl-PL" sz="5400" spc="-1" strike="noStrike">
                <a:solidFill>
                  <a:srgbClr val="374c81"/>
                </a:solidFill>
                <a:latin typeface="Century Gothic"/>
              </a:rPr>
              <a:t>Fiszki autokorektywne</a:t>
            </a:r>
            <a:endParaRPr b="0" lang="en-US" sz="5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4" name="Prostokąt zaokrąglony 4"/>
          <p:cNvSpPr/>
          <p:nvPr/>
        </p:nvSpPr>
        <p:spPr>
          <a:xfrm>
            <a:off x="407844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Pytania łatw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5" name="Prostokąt zaokrąglony 5"/>
          <p:cNvSpPr/>
          <p:nvPr/>
        </p:nvSpPr>
        <p:spPr>
          <a:xfrm>
            <a:off x="667080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średnio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6" name="Prostokąt zaokrąglony 6"/>
          <p:cNvSpPr/>
          <p:nvPr/>
        </p:nvSpPr>
        <p:spPr>
          <a:xfrm>
            <a:off x="9271080" y="4149720"/>
            <a:ext cx="244800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117440" y="3284640"/>
            <a:ext cx="10157040" cy="7920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3200" spc="-1" strike="noStrike">
                <a:solidFill>
                  <a:srgbClr val="374c81"/>
                </a:solidFill>
                <a:latin typeface="Century Gothic"/>
              </a:rPr>
              <a:t>Czym się różni rana cięta od rany szarpanej?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8" name="Strzałka w prawo 1"/>
          <p:cNvSpPr/>
          <p:nvPr/>
        </p:nvSpPr>
        <p:spPr>
          <a:xfrm>
            <a:off x="9263160" y="5877000"/>
            <a:ext cx="2011320" cy="79200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0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Odpowiedź</a:t>
            </a:r>
            <a:endParaRPr b="0" lang="en-US" sz="20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990800" y="1412640"/>
            <a:ext cx="9283680" cy="4470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800" spc="-1" strike="noStrike">
                <a:solidFill>
                  <a:srgbClr val="374c81"/>
                </a:solidFill>
                <a:latin typeface="Century Gothic"/>
              </a:rPr>
              <a:t>Rana cięta ma gładkie brzegi, podczas gdy rana szarpana ma brzegi nieregularne</a:t>
            </a:r>
            <a:endParaRPr b="0" lang="en-US" sz="28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8T14:36:12Z</dcterms:created>
  <dc:creator/>
  <dc:description/>
  <cp:keywords/>
  <dc:language>en-US</dc:language>
  <cp:lastModifiedBy/>
  <dcterms:modified xsi:type="dcterms:W3CDTF">2013-08-18T15:39:2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7879409991</vt:lpwstr>
  </property>
</Properties>
</file>